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3BE-4BDF-4F70-8F96-E52B9B2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1BF-4150-496D-A7F6-702B79F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2A5-78AD-4763-909D-CE5C69D7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220-317A-4813-8006-333E267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4E0-7850-4B37-BF59-A06D463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402-32AF-486A-A4C5-6D06F068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E26-F9F0-433F-8C8C-30D0AC6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474-CE53-4533-8400-D2E4DCD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A2D-3C1B-41FA-882B-0293D7E3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1F2-820F-46CF-8703-F70B0D7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222-E5A8-4887-9ADD-1F2A782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3ED-80D8-4908-AAF3-A475D2D6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CD4-D493-470A-B9B2-BD458216A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rig"/>
          <p:cNvPicPr/>
          <p:nvPr/>
        </p:nvPicPr>
        <p:blipFill>
          <a:blip r:embed="rId1"/>
          <a:stretch/>
        </p:blipFill>
        <p:spPr>
          <a:xfrm>
            <a:off x="304920" y="304920"/>
            <a:ext cx="2000160" cy="2284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0" y="259092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Georgia"/>
              </a:rPr>
              <a:t>Эдвард Гри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Georgia"/>
              </a:rPr>
              <a:t>«Песня Сольвейг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новая12"/>
          <p:cNvPicPr/>
          <p:nvPr/>
        </p:nvPicPr>
        <p:blipFill>
          <a:blip r:embed="rId1"/>
          <a:stretch/>
        </p:blipFill>
        <p:spPr>
          <a:xfrm>
            <a:off x="685800" y="609480"/>
            <a:ext cx="7773840" cy="5629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514600" y="6324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Н. Рерих «Домик Сольвей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33520" y="2133720"/>
            <a:ext cx="3429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насмешл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спокой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шутл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груст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вес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029200" y="2133720"/>
            <a:ext cx="3733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лег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пл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протя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праздни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торже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228600"/>
            <a:ext cx="8382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Как звучит мелод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В ответе используй ключевы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овая12"/>
          <p:cNvPicPr/>
          <p:nvPr/>
        </p:nvPicPr>
        <p:blipFill>
          <a:blip r:embed="rId1"/>
          <a:stretch/>
        </p:blipFill>
        <p:spPr>
          <a:xfrm>
            <a:off x="1752480" y="2057400"/>
            <a:ext cx="5621400" cy="407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514600" y="6248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eorgia"/>
              </a:rPr>
              <a:t>Н. Рерих «Домик Сольвей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28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Рассмотри рисунок художника.     Что в нём больше всего напоминает движение мелод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 Идентификатор 104-934-272</dc:creator>
  <dc:description/>
  <dc:language>en-US</dc:language>
  <cp:lastModifiedBy>Елена Викторовна</cp:lastModifiedBy>
  <dcterms:modified xsi:type="dcterms:W3CDTF">2012-07-23T10:00:42Z</dcterms:modified>
  <cp:revision>17</cp:revision>
  <dc:subject/>
  <dc:title>Э.Гри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